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653-345D-4EFC-BA9B-FA14742D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382-91FA-4AB6-9E72-F4C92A09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5CC-2CCF-49EA-9950-C3D48614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864-29BC-4545-948D-9A625682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E5D-9724-4520-AE2A-10573F05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9EA-701A-41B3-B089-15FBE3F6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B4F-350C-4941-A820-101F3638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CD7-4CA5-4E9E-AF98-AC00C8F7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676-27DB-4476-B90C-28F7978B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BFA-7415-478F-8E8D-E7387D17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CBD-556D-4EB4-8247-95DE471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57B-B138-4C64-A9D4-2F9E00DC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CEBB-977E-4D76-AFF6-081BF52B3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ww.asm64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asyfuz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03:57:38Z</dcterms:created>
  <dc:creator>admin</dc:creator>
  <dc:description/>
  <dc:language>en-US</dc:language>
  <cp:lastModifiedBy/>
  <dcterms:modified xsi:type="dcterms:W3CDTF">2015-01-21T04:03:1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3</vt:lpwstr>
  </property>
</Properties>
</file>